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8BC-B5D2-47C6-933E-72A38892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257-F8FF-4D43-828F-7B73A167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2B7-43EC-42D6-9211-CA1B90CF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873-FC6E-46EB-92D8-80F112B7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7BA4-CC85-4B44-834F-AFD932FC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749-129F-4369-B64F-051C98D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8B1-6BC2-4D89-9B80-F5F8564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E31-FEAF-4AB4-942E-FBEFB83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33C3-8463-44F7-B2CF-793FD217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1F70-BB62-4050-944F-99202091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C9D-C23D-4304-BD82-4682FC6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D56-9BD1-4222-8F8C-6D12A1D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7019-B1EA-4ACE-A1DB-9CE998E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24C-83F6-44D5-B4D3-13D3B36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E4A2-7C12-468D-9F20-36229FE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4988-7B1C-44D3-AA63-0080D263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9B7-4277-43CE-ACAD-A19A0334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A94-88D2-4B11-A2B8-BB5C3FFA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D49-3993-4CBC-A3BE-D274C18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C59-17D6-4AE4-B761-61EA751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356-BAD8-4B0C-99F3-E37792A3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F0E-4963-4372-91B5-6EF636E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31F-918F-4F84-817D-83A8934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E98-5E0A-401D-9B3C-94104DB9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48B-8F93-46B7-9AD3-ABC5862F4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F7C-9CCF-4029-9F39-AC2189789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023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 </a:t>
            </a: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Endangered Walruses  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y: Zach Konieczn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Walruses Not Dying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is Walrus is not dying but they are on the endangered list.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252520"/>
            <a:ext cx="40338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ndangered Walrus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Walruses are drowning because the ice caps are melt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84280"/>
            <a:ext cx="40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helter Problem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Running out of ice: Walrus calves dying in stampedes</a:t>
            </a:r>
            <a:endParaRPr b="0" lang="en-US" sz="30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600280"/>
            <a:ext cx="4033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nclusion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 think we should save walruses and take them off the endangered list. Thanks for watching my slide show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4:35:42Z</dcterms:created>
  <dc:creator>Durling Clearview</dc:creator>
  <dc:description/>
  <dc:language>en-US</dc:language>
  <cp:lastModifiedBy>Durling Clearview</cp:lastModifiedBy>
  <dcterms:modified xsi:type="dcterms:W3CDTF">2009-12-18T13:26:14Z</dcterms:modified>
  <cp:revision>3</cp:revision>
  <dc:subject/>
  <dc:title> Endangered Walruses  </dc:title>
</cp:coreProperties>
</file>